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8.jpeg" ContentType="image/jpeg"/>
  <Override PartName="/ppt/media/image7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Click to move the slide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A6E51-E186-4B78-9AC1-1EC4F2394C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fluence of Human Activity on the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fluence of Human Activity on the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s with Fertili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sers enable farmers to grow more food as they are replacing the nutrients removed from the soil by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if too much fertiliser is added and it then rains, the fertiliser finds its way into rivers and lak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uses the water plants to grow  and as there is competition for light, some will 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s with Fertili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sers enable farmers to grow more food as they are replacing the nutrients removed from the soil by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if too much fertiliser is added and it then rains, the fertiliser finds its way into rivers and lak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uses the water plants to grow  and as there is competition for light, some will 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decay the dead plants and in so doing use up oxygen from the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s the fish suffocate and 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rocess is called Eutroph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w sewage pumped into rivers has the same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decay the dead plants and in so doing use up oxygen from the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s the fish suffocate and 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rocess is called Eutroph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w sewage pumped into rivers has the same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stic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sticides kill insects that will damage cr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lso kill harmless insects or  can get washed into rivers and pollute the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ay even end up in the food ch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stic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sticides kill insects that will damage cr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lso kill harmless insects or  can get washed into rivers and pollute the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ay even end up in the food ch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1960s, DDT in the food chain threatened  bird population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birds of prey came close to exti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1960s, DDT in the food chain threatened  bird population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birds of prey came close to exti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can we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we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Farm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roduces less food and is more expensive but it does not produce the pollution problems of intensive fa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Farm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roduces less food and is more expensive but it does not produce the pollution problems of intensive fa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farmyard manure as a fertiliser and set aside land for growth of wild pl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farmyard manure as a fertiliser and set aside land for growth of wild pl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ical Control of P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s using natural predators to eat pests instead of pestic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does not have harmful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ical Control of P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s using natural predators to eat pests instead of pestic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does not have harmful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ments in agriculture health and medicine have produced a dramatic rise in the human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ncrease in population size leads to an increase in pollution and higher demand for the world’s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ments in agriculture health and medicine have produced a dramatic rise in the human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ncrease in population size leads to an increase in pollution and higher demand for the world’s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 alternative energy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erve our rapidly diminishing fossil fuel reserves by using solar power or wind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 alternative energy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erve our rapidly diminishing fossil fuel reserves by using solar power or wind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ts of conserving endangered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tour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ricultural bene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es indic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aining diversity in gene poo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ts of conserving endangered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tour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ricultural bene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es indic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aining diversity in gene poo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s are using up the earth’s resources, including fossil fuels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s are using up the earth’s resources, including fossil fuels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ning fossil fuels in cars and power stations produces carbon dioxide, sulphur dioxide  and other greenhous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 traps heat in the atmosphere and causes the temperature of the earth to r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leads to disruption of the weather patterns eg drought, fl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weeds may thrive on the extra carbon dioxide while other plants are ki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ning fossil fuels in cars and power stations produces carbon dioxide, sulphur dioxide  and other greenhous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 traps heat in the atmosphere and causes the temperature of the earth to r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leads to disruption of the weather patterns eg drought, fl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weeds may thrive on the extra carbon dioxide while other plants are ki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phur dioxide will dissolve in rain producing Acid 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 rain damages trees and pollutes rivers and lak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phur dioxide will dissolve in rain producing Acid 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 rain damages trees and pollutes rivers and lak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 rain causes erosion of building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tatues particularly if they are made of limeston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 rain causes erosion of building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tatues particularly if they are made of limeston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ore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may countries people are chopping down forests to provide timber or space for agriculture for the growing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ore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may countries people are chopping down forests to provide timber or space for agriculture for the growing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uses several problem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ning the timber increases the level of carbon dioxide in the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trees means less carbon dioxide absorbed for phot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il is eroded as it is exposed to the wind and 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water is transpired into the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animal and plant habitats are destroyed causing extinction of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uses several problem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ning the timber increases the level of carbon dioxide in the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trees means less carbon dioxide absorbed for phot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il is eroded as it is exposed to the wind and 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water is transpired into the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animal and plant habitats are destroyed causing extinction of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nsive Fa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ing has become more intensive to provide a higher % yield from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people regard intensive farming of animals to be cru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rder to produce more food from the land farmers have to use more fertilisers and pestic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nsive Fa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ing has become more intensive to provide a higher % yield from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people regard intensive farming of animals to be cru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rder to produce more food from the land farmers have to use more fertilisers and pestic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3247-A1C3-4C1A-B30B-5374F4833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B94E-9C76-4042-B286-7265008CD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2821-55D4-4CB1-9C27-A882159F9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3A4C-895B-4E89-AFD2-D1E8EEA8C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00FD-4583-4C82-BEAC-B0F9EB19F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3173-4F33-4FD4-9594-B7057AEF4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2199-3507-44DD-BA30-BBE32ECD2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A612-AD94-4F27-B416-391009DE1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64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4642-B26C-4111-9BEF-FC370F2BF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F4CB-B2EF-4A8B-96A6-6B2341CE1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AC7F-67A5-4CDE-BF3F-08371CD4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FA07-95B8-45C0-BE0B-5F770C21A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99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CE5DB-0004-430A-B3F5-31E9F936074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The Influence of Human Activity on the Environment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50" name="Picture 4" descr="j0285360"/>
          <p:cNvPicPr/>
          <p:nvPr/>
        </p:nvPicPr>
        <p:blipFill>
          <a:blip r:embed="rId1"/>
          <a:stretch/>
        </p:blipFill>
        <p:spPr>
          <a:xfrm>
            <a:off x="2987640" y="3357720"/>
            <a:ext cx="276228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74" name="Picture 5" descr="image033"/>
          <p:cNvPicPr/>
          <p:nvPr/>
        </p:nvPicPr>
        <p:blipFill>
          <a:blip r:embed="rId1"/>
          <a:stretch/>
        </p:blipFill>
        <p:spPr>
          <a:xfrm>
            <a:off x="1332000" y="1139760"/>
            <a:ext cx="648000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Problems with Fertilisers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Fertilisers enable farmers to grow more food as they are replacing the nutrients removed from the soil by plants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However, if too much fertiliser is added and it then rains, the fertiliser finds its way into rivers and lakes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This causes the water plants to grow  and as there is competition for light, some will die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6660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403848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Bacteria decay the dead plants and in so doing use up oxygen from the water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This means the fish suffocate and die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This process is called Eutrophication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Raw sewage pumped into rivers has the same effect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79" name="Picture 5" descr="swan_algae"/>
          <p:cNvPicPr/>
          <p:nvPr/>
        </p:nvPicPr>
        <p:blipFill>
          <a:blip r:embed="rId1"/>
          <a:stretch/>
        </p:blipFill>
        <p:spPr>
          <a:xfrm>
            <a:off x="4925880" y="404640"/>
            <a:ext cx="3795840" cy="57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Pesticides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Pesticides kill insects that will damage crops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They also kill harmless insects or  can get washed into rivers and pollute the water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They may even end up in the food chain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In the 1960s, DDT in the food chain threatened  bird populations.</a:t>
            </a:r>
            <a:br>
              <a:rPr sz="2400"/>
            </a:b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Many birds of prey came close to extinction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84" name="Picture 7" descr="bird%20of%20prey"/>
          <p:cNvPicPr/>
          <p:nvPr/>
        </p:nvPicPr>
        <p:blipFill>
          <a:blip r:embed="rId1"/>
          <a:stretch/>
        </p:blipFill>
        <p:spPr>
          <a:xfrm>
            <a:off x="1908000" y="1514520"/>
            <a:ext cx="43149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87" name="Picture 5" descr="DDT"/>
          <p:cNvPicPr/>
          <p:nvPr/>
        </p:nvPicPr>
        <p:blipFill>
          <a:blip r:embed="rId1"/>
          <a:stretch/>
        </p:blipFill>
        <p:spPr>
          <a:xfrm>
            <a:off x="155520" y="46080"/>
            <a:ext cx="6937560" cy="636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What can we Do?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89" name="Picture 4" descr="MCj04077340000[1]"/>
          <p:cNvPicPr/>
          <p:nvPr/>
        </p:nvPicPr>
        <p:blipFill>
          <a:blip r:embed="rId1"/>
          <a:stretch/>
        </p:blipFill>
        <p:spPr>
          <a:xfrm>
            <a:off x="2268360" y="1990800"/>
            <a:ext cx="417528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Organic Farming?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This produces less food and is more expensive but it does not produce the pollution problems of intensive farming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92" name="Picture 4" descr="MCj02331180000[1]"/>
          <p:cNvPicPr/>
          <p:nvPr/>
        </p:nvPicPr>
        <p:blipFill>
          <a:blip r:embed="rId1"/>
          <a:stretch/>
        </p:blipFill>
        <p:spPr>
          <a:xfrm>
            <a:off x="4427640" y="1481040"/>
            <a:ext cx="4716360" cy="33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Use farmyard manure as a fertiliser and set aside land for growth of wild plants 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95" name="Picture 5" descr="cow-manure"/>
          <p:cNvPicPr/>
          <p:nvPr/>
        </p:nvPicPr>
        <p:blipFill>
          <a:blip r:embed="rId1"/>
          <a:stretch/>
        </p:blipFill>
        <p:spPr>
          <a:xfrm>
            <a:off x="2484360" y="2084400"/>
            <a:ext cx="48960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Biological Control of Pests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This means using natural predators to eat pests instead of pesticides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It does not have harmful effects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98" name="Picture 5" descr="g1251"/>
          <p:cNvPicPr/>
          <p:nvPr/>
        </p:nvPicPr>
        <p:blipFill>
          <a:blip r:embed="rId1"/>
          <a:stretch/>
        </p:blipFill>
        <p:spPr>
          <a:xfrm>
            <a:off x="4427640" y="1654200"/>
            <a:ext cx="403200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Improvements in agriculture health and medicine have produced a dramatic rise in the human population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This increase in population size leads to an increase in pollution and higher demand for the world’s resources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53" name="Picture 5" descr="worldpop"/>
          <p:cNvPicPr/>
          <p:nvPr/>
        </p:nvPicPr>
        <p:blipFill>
          <a:blip r:embed="rId1"/>
          <a:stretch/>
        </p:blipFill>
        <p:spPr>
          <a:xfrm>
            <a:off x="1619280" y="2597040"/>
            <a:ext cx="5624640" cy="39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Develop alternative energy sources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Conserve our rapidly diminishing fossil fuel reserves by using solar power or wind power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101" name="Picture 5" descr="photo_13890"/>
          <p:cNvPicPr/>
          <p:nvPr/>
        </p:nvPicPr>
        <p:blipFill>
          <a:blip r:embed="rId1"/>
          <a:stretch/>
        </p:blipFill>
        <p:spPr>
          <a:xfrm>
            <a:off x="5072040" y="1628640"/>
            <a:ext cx="319392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Benefits of conserving endangered species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Ecotourism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Agricultural benefits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Species indicators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Maintaining diversity in gene pool 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104" name="Picture 5" descr="elephantnewbie"/>
          <p:cNvPicPr/>
          <p:nvPr/>
        </p:nvPicPr>
        <p:blipFill>
          <a:blip r:embed="rId1"/>
          <a:stretch/>
        </p:blipFill>
        <p:spPr>
          <a:xfrm>
            <a:off x="4648320" y="1484280"/>
            <a:ext cx="4038480" cy="41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Humans are using up the earth’s resources, including fossil fuels.</a:t>
            </a:r>
            <a:br>
              <a:rPr sz="2400"/>
            </a:b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56" name="Picture 5" descr="2630"/>
          <p:cNvPicPr/>
          <p:nvPr/>
        </p:nvPicPr>
        <p:blipFill>
          <a:blip r:embed="rId1"/>
          <a:stretch/>
        </p:blipFill>
        <p:spPr>
          <a:xfrm>
            <a:off x="1476360" y="2092320"/>
            <a:ext cx="6335640" cy="42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Burning fossil fuels in cars and power stations produces carbon dioxide, sulphur dioxide  and other greenhouse gases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mic Sans MS"/>
              </a:rPr>
              <a:t>carbon dioxide traps heat in the atmosphere and causes the temperature of the earth to rise.</a:t>
            </a:r>
            <a:endParaRPr b="0" lang="en-US" sz="20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mic Sans MS"/>
              </a:rPr>
              <a:t>This leads to disruption of the weather patterns eg drought, floods</a:t>
            </a:r>
            <a:endParaRPr b="0" lang="en-US" sz="20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mic Sans MS"/>
              </a:rPr>
              <a:t>Some weeds may thrive on the extra carbon dioxide while other plants are killed</a:t>
            </a:r>
            <a:endParaRPr b="0" lang="en-US" sz="20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59" name="Picture 5" descr="Greenhouseeffect"/>
          <p:cNvPicPr/>
          <p:nvPr/>
        </p:nvPicPr>
        <p:blipFill>
          <a:blip r:embed="rId1"/>
          <a:stretch/>
        </p:blipFill>
        <p:spPr>
          <a:xfrm>
            <a:off x="4834080" y="1484280"/>
            <a:ext cx="38559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Sulphur dioxide will dissolve in rain producing Acid Rain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Acid rain damages trees and pollutes rivers and lakes.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62" name="Picture 7" descr="acidraindamage"/>
          <p:cNvPicPr/>
          <p:nvPr/>
        </p:nvPicPr>
        <p:blipFill>
          <a:blip r:embed="rId1"/>
          <a:stretch/>
        </p:blipFill>
        <p:spPr>
          <a:xfrm>
            <a:off x="2340000" y="2708280"/>
            <a:ext cx="525636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Acid rain causes erosion of buildings</a:t>
            </a:r>
            <a:br>
              <a:rPr sz="2400"/>
            </a:b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and statues particularly if they are made of limestone</a:t>
            </a:r>
            <a:br>
              <a:rPr sz="2400"/>
            </a:b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64" name="Picture 4" descr="acidrainstatueed"/>
          <p:cNvPicPr/>
          <p:nvPr/>
        </p:nvPicPr>
        <p:blipFill>
          <a:blip r:embed="rId1"/>
          <a:stretch/>
        </p:blipFill>
        <p:spPr>
          <a:xfrm>
            <a:off x="2778120" y="1600200"/>
            <a:ext cx="3586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Deforestation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In may countries people are chopping down forests to provide timber or space for agriculture for the growing population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67" name="Picture 5" descr="deforestation_aerial_0066"/>
          <p:cNvPicPr/>
          <p:nvPr/>
        </p:nvPicPr>
        <p:blipFill>
          <a:blip r:embed="rId1"/>
          <a:stretch/>
        </p:blipFill>
        <p:spPr>
          <a:xfrm>
            <a:off x="4427640" y="1628640"/>
            <a:ext cx="425916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This causes several problems</a:t>
            </a:r>
            <a:br>
              <a:rPr sz="2800"/>
            </a:b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Burning the timber increases the level of carbon dioxide in the air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Less trees means less carbon dioxide absorbed for photosynthesis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Soil is eroded as it is exposed to the wind and rain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Less water is transpired into the atmosphere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Many animal and plant habitats are destroyed causing extinction of species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Intensive Farming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Farming has become more intensive to provide a higher % yield from land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Many people regard intensive farming of animals to be cruel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In order to produce more food from the land farmers have to use more fertilisers and pesticides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7T12:35:44Z</dcterms:created>
  <dc:creator>Mary</dc:creator>
  <dc:description>The Influence of Human Activity on the Environment</dc:description>
  <cp:keywords>The Influence of Human Activity on the Environment</cp:keywords>
  <dc:language>en-US</dc:language>
  <cp:lastModifiedBy>RomaK</cp:lastModifiedBy>
  <dcterms:modified xsi:type="dcterms:W3CDTF">2015-09-04T09:45:36Z</dcterms:modified>
  <cp:revision>8</cp:revision>
  <dc:subject>The Influence of Human Activity on the Environment</dc:subject>
  <dc:title>The Influence of Human Activity on the Environment</dc:title>
</cp:coreProperties>
</file>